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EC3-A3CD-4B4B-850B-93AD38554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E910-6CF5-440F-9664-7DB78D13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3098-B3A5-466B-94B2-36CFD211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D215-7B43-4A82-9948-D00078A25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EECF-BF8A-43A2-8A75-5925A23A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8F55-79C9-4ADC-B400-49BE8C398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6D3B-4217-4762-B0F4-E361A40A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33A7-0D12-4078-AB46-7EC9414BD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F76B-A15A-4DC8-ABC6-18701AA5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88E9-34B8-42A7-9E79-152F1F85D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5B79-CFEA-4B25-8C04-C1FB13DC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974C-2847-44DC-A4B1-BA6001FB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2888-952F-4354-9CDF-E4BD26C16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A35B-2A4E-43FE-8900-7E851AA35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AC01-6F4D-4657-91E4-19FA33C0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01D5-F09A-41CC-BCBB-C4197E75C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B16D-2952-4F35-9A64-FF90C1BFD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976B-ABD2-44CF-A86C-AA14E4645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CAF8-1698-440F-822D-2086920CA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551-17BB-4649-B722-4F07EE5D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D75-1594-4993-8493-3709AFB5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BBC-D9BF-412C-B204-A683B234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907-29C2-4575-8E56-0C765B89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267B-DD96-4EBE-A2CD-3F201630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EBAA-061F-4AE2-B0E1-A41ACD40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32C2-D321-4395-A8BD-119B84D6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7126-36F8-48F0-A621-362A4441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1AA-790E-453A-80C9-7CE95572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AC5B-196F-42F0-91D3-5B471EE3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C897-9FD6-40F1-8C39-2EC0678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74D-1135-4367-8A5C-9DB38710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664-E22E-4058-820F-08AB41C7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A559-9857-4C01-871B-B2FE704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450A-84C1-4020-ADFD-C13D9543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C800-6AAA-47AF-9284-E3A72F96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2489-F4A3-4E97-8DA9-A479E8EA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BF4-EA6C-46FE-A45C-1F6A210D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6D0-6D04-476E-85D8-C7F68B41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B8C-CE66-4090-80D5-57F5ABB9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263-C9C9-4DFD-AC78-D644EC6B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9AA-0983-466A-A709-B4A45DCA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C71-D073-4730-9E83-51254839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F9E-FD2D-4265-A218-3A26ABB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D800-1271-455E-8E24-D3D5B0B37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B1D5-AD25-4B10-929D-1204850CE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cdonalds.com/us/en/hom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valuating Design Prototyp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monopoly fries.bmp"/>
          <p:cNvPicPr/>
          <p:nvPr/>
        </p:nvPicPr>
        <p:blipFill>
          <a:blip r:embed="rId1"/>
          <a:stretch/>
        </p:blipFill>
        <p:spPr>
          <a:xfrm>
            <a:off x="2390760" y="4062240"/>
            <a:ext cx="4114800" cy="257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Monopoly guy.bmp"/>
          <p:cNvPicPr/>
          <p:nvPr/>
        </p:nvPicPr>
        <p:blipFill>
          <a:blip r:embed="rId2"/>
          <a:stretch/>
        </p:blipFill>
        <p:spPr>
          <a:xfrm>
            <a:off x="5029200" y="812880"/>
            <a:ext cx="4114800" cy="304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4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hoosing Our Design: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lass (or teams) will decide which design to manufactur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26920" y="690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Who Will Create a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Design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eryon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e per team (existing, or  create teams)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ner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26920" y="253224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Use the Design Process of Creating a Prototype to Teach/Use a Computer Program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14320" y="88380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What Tool will be Used to Create the Design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39520" y="2652480"/>
            <a:ext cx="70102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uxpa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dp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d / Publis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4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hoosing Our Design: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lass (or teams) will decide which design to manufactur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4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How Will We Choose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ivate vot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ise of Han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nking the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47124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Look at all the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Prototypes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it attractiv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it Sturd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it Easy to Ma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VP of Design 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this the best we can do with this produc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VP of Manufacturing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n we make it easily and inexpensiv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26920" y="690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ompany Designs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ny companies use more than one logo. See the example from McDonal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M.bmp"/>
          <p:cNvPicPr/>
          <p:nvPr/>
        </p:nvPicPr>
        <p:blipFill>
          <a:blip r:embed="rId1"/>
          <a:stretch/>
        </p:blipFill>
        <p:spPr>
          <a:xfrm>
            <a:off x="6748560" y="5045040"/>
            <a:ext cx="1350720" cy="118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VP of Marketing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are we going to advertise this?  Does it have special features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VP of Sales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n we sell this product, and for how mu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VP of Finance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n we sell this product for a prof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President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everyone able to share their ide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Only One Design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we limit it to one design, or allow mo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How and When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2382480"/>
            <a:ext cx="701064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the design refined and finish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26920" y="690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Bibliography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donalds.com/us/en/home.htm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M.bmp"/>
          <p:cNvPicPr/>
          <p:nvPr/>
        </p:nvPicPr>
        <p:blipFill>
          <a:blip r:embed="rId2"/>
          <a:stretch/>
        </p:blipFill>
        <p:spPr>
          <a:xfrm>
            <a:off x="4633920" y="5116680"/>
            <a:ext cx="1444680" cy="126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monopoly is back.bmp"/>
          <p:cNvPicPr/>
          <p:nvPr/>
        </p:nvPicPr>
        <p:blipFill>
          <a:blip r:embed="rId1"/>
          <a:srcRect l="0" t="541" r="35309" b="6778"/>
          <a:stretch/>
        </p:blipFill>
        <p:spPr>
          <a:xfrm>
            <a:off x="2616120" y="1403280"/>
            <a:ext cx="5227560" cy="46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gmac.bmp"/>
          <p:cNvPicPr/>
          <p:nvPr/>
        </p:nvPicPr>
        <p:blipFill>
          <a:blip r:embed="rId1"/>
          <a:srcRect l="0" t="0" r="50751" b="22087"/>
          <a:stretch/>
        </p:blipFill>
        <p:spPr>
          <a:xfrm>
            <a:off x="1965240" y="533520"/>
            <a:ext cx="3291120" cy="32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burger.bmp"/>
          <p:cNvPicPr/>
          <p:nvPr/>
        </p:nvPicPr>
        <p:blipFill>
          <a:blip r:embed="rId2"/>
          <a:srcRect l="0" t="0" r="50521" b="26094"/>
          <a:stretch/>
        </p:blipFill>
        <p:spPr>
          <a:xfrm>
            <a:off x="5318280" y="3405240"/>
            <a:ext cx="3349440" cy="31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dice.bmp"/>
          <p:cNvPicPr/>
          <p:nvPr/>
        </p:nvPicPr>
        <p:blipFill>
          <a:blip r:embed="rId1"/>
          <a:srcRect l="0" t="0" r="81743" b="72369"/>
          <a:stretch/>
        </p:blipFill>
        <p:spPr>
          <a:xfrm>
            <a:off x="2583000" y="262080"/>
            <a:ext cx="3019320" cy="2852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dip.bmp"/>
          <p:cNvPicPr/>
          <p:nvPr/>
        </p:nvPicPr>
        <p:blipFill>
          <a:blip r:embed="rId2"/>
          <a:srcRect l="0" t="0" r="50521" b="49134"/>
          <a:stretch/>
        </p:blipFill>
        <p:spPr>
          <a:xfrm>
            <a:off x="3900600" y="3778200"/>
            <a:ext cx="394164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hashbrowns.bmp"/>
          <p:cNvPicPr/>
          <p:nvPr/>
        </p:nvPicPr>
        <p:blipFill>
          <a:blip r:embed="rId1"/>
          <a:srcRect l="0" t="0" r="66085" b="12560"/>
          <a:stretch/>
        </p:blipFill>
        <p:spPr>
          <a:xfrm>
            <a:off x="2274840" y="485640"/>
            <a:ext cx="2825640" cy="455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M.bmp"/>
          <p:cNvPicPr/>
          <p:nvPr/>
        </p:nvPicPr>
        <p:blipFill>
          <a:blip r:embed="rId2"/>
          <a:stretch/>
        </p:blipFill>
        <p:spPr>
          <a:xfrm>
            <a:off x="5267160" y="3397320"/>
            <a:ext cx="3534120" cy="309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man and ford.bmp"/>
          <p:cNvPicPr/>
          <p:nvPr/>
        </p:nvPicPr>
        <p:blipFill>
          <a:blip r:embed="rId1"/>
          <a:stretch/>
        </p:blipFill>
        <p:spPr>
          <a:xfrm>
            <a:off x="2211480" y="2712960"/>
            <a:ext cx="4114800" cy="3724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man and money.bmp"/>
          <p:cNvPicPr/>
          <p:nvPr/>
        </p:nvPicPr>
        <p:blipFill>
          <a:blip r:embed="rId2"/>
          <a:srcRect l="0" t="0" r="28177" b="12560"/>
          <a:stretch/>
        </p:blipFill>
        <p:spPr>
          <a:xfrm>
            <a:off x="5427720" y="506520"/>
            <a:ext cx="2955960" cy="224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man walmart.bmp"/>
          <p:cNvPicPr/>
          <p:nvPr/>
        </p:nvPicPr>
        <p:blipFill>
          <a:blip r:embed="rId1"/>
          <a:stretch/>
        </p:blipFill>
        <p:spPr>
          <a:xfrm>
            <a:off x="2287440" y="3292560"/>
            <a:ext cx="4114800" cy="307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McDon guy 2.bmp"/>
          <p:cNvPicPr/>
          <p:nvPr/>
        </p:nvPicPr>
        <p:blipFill>
          <a:blip r:embed="rId2"/>
          <a:srcRect l="0" t="0" r="68047" b="34604"/>
          <a:stretch/>
        </p:blipFill>
        <p:spPr>
          <a:xfrm>
            <a:off x="5613480" y="236520"/>
            <a:ext cx="2462040" cy="314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monopoloy guy.bmp"/>
          <p:cNvPicPr/>
          <p:nvPr/>
        </p:nvPicPr>
        <p:blipFill>
          <a:blip r:embed="rId1"/>
          <a:srcRect l="0" t="0" r="68900" b="53140"/>
          <a:stretch/>
        </p:blipFill>
        <p:spPr>
          <a:xfrm>
            <a:off x="5403960" y="3095640"/>
            <a:ext cx="3468600" cy="326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monopoly coke.bmp"/>
          <p:cNvPicPr/>
          <p:nvPr/>
        </p:nvPicPr>
        <p:blipFill>
          <a:blip r:embed="rId2"/>
          <a:srcRect l="0" t="0" r="64285" b="541"/>
          <a:stretch/>
        </p:blipFill>
        <p:spPr>
          <a:xfrm>
            <a:off x="2406600" y="495360"/>
            <a:ext cx="2551320" cy="4438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2:20:04Z</dcterms:created>
  <dc:creator> </dc:creator>
  <dc:description/>
  <cp:keywords/>
  <dc:language>en-US</dc:language>
  <cp:lastModifiedBy> </cp:lastModifiedBy>
  <dcterms:modified xsi:type="dcterms:W3CDTF">2010-10-22T16:37:50Z</dcterms:modified>
  <cp:revision>14</cp:revision>
  <dc:subject/>
  <dc:title>Evaluating Design Prototyp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14614103</vt:r8>
  </property>
  <property fmtid="{D5CDD505-2E9C-101B-9397-08002B2CF9AE}" pid="3" name="_AuthorEmail">
    <vt:lpwstr>tloosle@graniteschools.org</vt:lpwstr>
  </property>
  <property fmtid="{D5CDD505-2E9C-101B-9397-08002B2CF9AE}" pid="4" name="_AuthorEmailDisplayName">
    <vt:lpwstr>Loosle, Tamara</vt:lpwstr>
  </property>
  <property fmtid="{D5CDD505-2E9C-101B-9397-08002B2CF9AE}" pid="5" name="_EmailSubject">
    <vt:lpwstr>Resources for Wiki</vt:lpwstr>
  </property>
  <property fmtid="{D5CDD505-2E9C-101B-9397-08002B2CF9AE}" pid="6" name="_NewReviewCycle">
    <vt:lpwstr/>
  </property>
  <property fmtid="{D5CDD505-2E9C-101B-9397-08002B2CF9AE}" pid="7" name="_TemplateID">
    <vt:lpwstr>TC011589511033</vt:lpwstr>
  </property>
</Properties>
</file>